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74E-77D3-4C81-9958-AD156313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226-0A18-417E-BD29-30C8B03A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C55-7594-4EBE-934F-13FF7C31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AE2-1B51-46DE-80F5-2CF46446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41B-5A68-469F-A578-05ACB490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3C1-B44C-4039-A9C7-889C99BC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FDA-AD35-4775-85B4-CA158B8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55D-4A35-498E-8363-D8C28207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C11-BC0A-4833-B680-56B5537D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817-45D5-4870-8194-A0BEF82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0F4-FE7C-4440-82ED-545EE47A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FE5-6E31-48BA-92CE-C77C2FAC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6F331-54B2-4969-BD22-1F3F0D677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possibility or uncertainty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ore f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eace conference may find a solution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impas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iom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y as I m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es.)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Try as I migh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y as I might I could not pass the driving t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tried hard but couldn’t pass i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h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is certain to happen, or you want it to ha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shall definitely give up smoking this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home team shall surely w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rules an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 player shall pick up or move any piec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fore it’s his tu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hone’s ringing. It’ll be for 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usal, insistence, a promise or a 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won’t drive you to the dis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h yes you wil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’ll tell mom, I swea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stated condi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body would agree with that idea (if w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sked everybod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fe wouldn’t be worth living without you (i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weren’t her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ue wouldn’t do that, surely! (if you suspec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r of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ormal 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you need to make some photocop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s a modal in questions and neg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eed you make so much noi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needn’t come if you don’t want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don’t have to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m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't have to refers to an absence of oblig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don't have to wor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not refers to an oblig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do someth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must not leave the room before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d of the te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hould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ught 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film should be really g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think you should talk it over with y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uests should vacate their rooms by mid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ism of an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shouldn’t eat so much late at 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ld I leave these papers on your des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verbs of thinking to make an opinion less 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ld thin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model would sell very w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djectives describing chance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dd, strange, funny, What a coincidence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rang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that you should be staying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me hote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c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indicate unlikelih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’m taking an umbrella in case it should 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ility or uncertai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could be the ho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comparative adjectives to express possibility or imposs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ituation couldn’t be wor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ngs could certainly be be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could go to that new restaurant in t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willing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couldn’t possibly leave my child at home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r 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ke critic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can be really annoying, you know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refer to cap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u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a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un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must be our 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e can’t be mother tongue; she has 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c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me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e may be the boss, but that’s no excuse f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ting like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the only thing left to do; the speaker is unenthusiastic about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 seems no one else dis going to come to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sson so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ay/might as well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 h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9:07:47Z</dcterms:created>
  <dc:creator>Paul Filippetto</dc:creator>
  <dc:description/>
  <dc:language>en-US</dc:language>
  <cp:lastModifiedBy>Paul Filippetto</cp:lastModifiedBy>
  <dcterms:modified xsi:type="dcterms:W3CDTF">2014-11-13T12:52:16Z</dcterms:modified>
  <cp:revision>20</cp:revision>
  <dc:subject/>
  <dc:title>modal verbs</dc:title>
</cp:coreProperties>
</file>